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47.png" ContentType="image/png"/>
  <Override PartName="/ppt/media/image50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11.jpeg" ContentType="image/jpeg"/>
  <Override PartName="/ppt/media/image9.jpeg" ContentType="image/jpeg"/>
  <Override PartName="/ppt/media/image48.png" ContentType="image/png"/>
  <Override PartName="/ppt/media/image13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1.png" ContentType="image/png"/>
  <Override PartName="/ppt/media/image49.wmf" ContentType="image/x-wmf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png" ContentType="image/png"/>
  <Override PartName="/ppt/media/image37.wmf" ContentType="image/x-wmf"/>
  <Override PartName="/ppt/media/image41.wmf" ContentType="image/x-wmf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7.jpeg" ContentType="image/jpeg"/>
  <Override PartName="/ppt/media/image4.jpeg" ContentType="image/jpeg"/>
  <Override PartName="/ppt/media/image40.png" ContentType="image/png"/>
  <Override PartName="/ppt/media/image38.wmf" ContentType="image/x-wmf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DCE4-CA92-4727-AB31-E01354DE6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D424-7722-479E-A373-C01B1069A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ECE5-6926-4A49-801B-9FBF382D2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AD74-D241-4406-A360-230BD1577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7B0E-E7E6-4109-B3F2-2CBB8AD96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2192-9C80-4EB6-B775-54E200421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7BB8-D131-4CCD-B990-EC20D8929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2802-28A5-4C8F-8914-7CE51F632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D8BB-916A-469E-AB6A-ECFE955A0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9C0D-2BA8-44C7-BEB0-ECAC98141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5E9B-2D1E-482C-B417-E0CAFBDCE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5F13-C83C-4593-9379-114E6A353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419C-B904-4AFE-B822-C228B47C2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7720-86B3-4704-ADF9-DBDB9611C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FE7E-C03A-4DB6-8BA2-45F595056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3FA4-6AF8-422C-A8FD-13B30BF98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E6C9-F460-4542-BC7A-BDF2457E7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D71F-1CAC-4D74-B39B-BACAEC34F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18D6-6364-4D2F-BD06-B56D19080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EBE7-B225-4316-BD34-7FC3C05D8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BFA7-5CFF-42EA-8917-BD5876F7B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9994-185D-4196-9971-8590EBB2E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E7CB-2B98-48EB-88DC-D1102613A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5C28-0DD7-4338-AB32-A45C38C8B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38AC-C7CC-48F2-BE67-A44E53327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E1FC-A995-4B42-83C4-CDF0D9769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4A68-3F09-4E52-AD94-D87ADEDD1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6A9F-8E35-4CCF-82A4-C8E426205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E6D3-A510-4C05-8828-4957D2065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1892-E93A-4F9F-8DCC-AD7CEC281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94FBB-9EC5-4688-A055-93E0BFED7F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019D4-3D9B-4F37-BE11-DCDC49ECD2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21E5C-CEE2-426B-A812-D20E083A57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76018-9D28-437E-B2A2-EA26115951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DA252-BDAA-4484-9E7A-E0A333A186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62092-85D2-4672-8E19-58E82F5444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8CB39-7EFE-482E-9344-79CC7B1964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0F8A5-ABF8-48D1-871C-621E51AB7A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6BE5B-FF13-4632-990F-962CC1D5B6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2CC36-27F7-40CF-A3FB-F0306F821D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6AB81-AC5D-4E86-A0F1-CB646A72D3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93DB0-FBFE-4250-AE7D-80B00C7D85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0D0D-90D0-4362-89C5-AFD90D39B6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0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440" y="2062080"/>
            <a:ext cx="525780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Обслуживание клиентов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8CD3-D68E-4FD3-81AD-14F95C1020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A9DD-56B0-477E-A904-E2D85D2072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рач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609480" y="2324160"/>
            <a:ext cx="19051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6324480" y="2400480"/>
            <a:ext cx="221004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3124080" y="5486400"/>
            <a:ext cx="289584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8" name="AutoShape 7"/>
          <p:cNvCxnSpPr>
            <a:stCxn id="237" idx="0"/>
            <a:endCxn id="236" idx="2"/>
          </p:cNvCxnSpPr>
          <p:nvPr/>
        </p:nvCxnSpPr>
        <p:spPr>
          <a:xfrm flipV="1">
            <a:off x="4572000" y="3200040"/>
            <a:ext cx="2858400" cy="2286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AutoShape 8"/>
          <p:cNvCxnSpPr>
            <a:stCxn id="237" idx="0"/>
            <a:endCxn id="235" idx="2"/>
          </p:cNvCxnSpPr>
          <p:nvPr/>
        </p:nvCxnSpPr>
        <p:spPr>
          <a:xfrm flipH="1" flipV="1">
            <a:off x="1561320" y="3085560"/>
            <a:ext cx="301068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40" name="AutoShape 9"/>
          <p:cNvSpPr/>
          <p:nvPr/>
        </p:nvSpPr>
        <p:spPr>
          <a:xfrm>
            <a:off x="3124080" y="1447920"/>
            <a:ext cx="2895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1" name="AutoShape 10"/>
          <p:cNvCxnSpPr>
            <a:stCxn id="237" idx="0"/>
            <a:endCxn id="240" idx="2"/>
          </p:cNvCxnSpPr>
          <p:nvPr/>
        </p:nvCxnSpPr>
        <p:spPr>
          <a:xfrm flipV="1">
            <a:off x="4571640" y="2590200"/>
            <a:ext cx="10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11"/>
          <p:cNvCxnSpPr>
            <a:stCxn id="235" idx="3"/>
            <a:endCxn id="240" idx="1"/>
          </p:cNvCxnSpPr>
          <p:nvPr/>
        </p:nvCxnSpPr>
        <p:spPr>
          <a:xfrm flipV="1">
            <a:off x="2514240" y="2018520"/>
            <a:ext cx="61020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3" name="AutoShape 12"/>
          <p:cNvCxnSpPr>
            <a:stCxn id="240" idx="3"/>
            <a:endCxn id="236" idx="1"/>
          </p:cNvCxnSpPr>
          <p:nvPr/>
        </p:nvCxnSpPr>
        <p:spPr>
          <a:xfrm>
            <a:off x="6019920" y="2019240"/>
            <a:ext cx="305280" cy="7819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4" name="Rectangle 13"/>
          <p:cNvSpPr/>
          <p:nvPr/>
        </p:nvSpPr>
        <p:spPr>
          <a:xfrm>
            <a:off x="2133720" y="3809880"/>
            <a:ext cx="4800600" cy="12956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Точная 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Понятная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Своеврем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1838-F8AA-4AEF-91F5-719B1DA8A2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8D8A-373B-4450-BA0E-BE04027FB8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10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врачей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66760" y="2225520"/>
          <a:ext cx="8496360" cy="3870360"/>
        </p:xfrm>
        <a:graphic>
          <a:graphicData uri="http://schemas.openxmlformats.org/drawingml/2006/table">
            <a:tbl>
              <a:tblPr/>
              <a:tblGrid>
                <a:gridCol w="2411280"/>
                <a:gridCol w="3205080"/>
                <a:gridCol w="2880000"/>
              </a:tblGrid>
              <a:tr h="823320"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Исслед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После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04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речень анали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уководство по взятию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ы запр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своевременной достав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верка компетент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алидация мет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ка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процесс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нештатными ситуаци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лабораторной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тверждение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нят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ккурат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50" name="AutoShape 47"/>
          <p:cNvSpPr/>
          <p:nvPr/>
        </p:nvSpPr>
        <p:spPr>
          <a:xfrm>
            <a:off x="533520" y="1371600"/>
            <a:ext cx="1600200" cy="6858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48"/>
          <p:cNvSpPr/>
          <p:nvPr/>
        </p:nvSpPr>
        <p:spPr>
          <a:xfrm>
            <a:off x="3200400" y="1371600"/>
            <a:ext cx="1752480" cy="685800"/>
          </a:xfrm>
          <a:custGeom>
            <a:avLst/>
            <a:gdLst>
              <a:gd name="textAreaLeft" fmla="*/ 273600 w 1752480"/>
              <a:gd name="textAreaRight" fmla="*/ 1533600 w 17524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49"/>
          <p:cNvSpPr/>
          <p:nvPr/>
        </p:nvSpPr>
        <p:spPr>
          <a:xfrm>
            <a:off x="6477120" y="1371600"/>
            <a:ext cx="1676160" cy="685800"/>
          </a:xfrm>
          <a:custGeom>
            <a:avLst/>
            <a:gdLst>
              <a:gd name="textAreaLeft" fmla="*/ 261720 w 1676160"/>
              <a:gd name="textAreaRight" fmla="*/ 1466640 w 16761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3" name="AutoShape 10"/>
          <p:cNvCxnSpPr>
            <a:stCxn id="254" idx="0"/>
          </p:cNvCxnSpPr>
          <p:nvPr/>
        </p:nvCxnSpPr>
        <p:spPr>
          <a:xfrm flipH="1" flipV="1">
            <a:off x="4799880" y="2895120"/>
            <a:ext cx="1220040" cy="19058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6589-129B-4A62-A9CE-72C96E5E18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2B59-0154-41B3-A14D-2554EB8B17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228600" y="3429000"/>
            <a:ext cx="3962520" cy="18288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Безопасность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пац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304920" y="1752480"/>
            <a:ext cx="25905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6400800" y="21337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4572000" y="480060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3" name="AutoShape 7"/>
          <p:cNvCxnSpPr>
            <a:stCxn id="254" idx="0"/>
          </p:cNvCxnSpPr>
          <p:nvPr/>
        </p:nvCxnSpPr>
        <p:spPr>
          <a:xfrm flipV="1">
            <a:off x="6019920" y="3161520"/>
            <a:ext cx="915120" cy="1639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AutoShape 8"/>
          <p:cNvCxnSpPr>
            <a:stCxn id="254" idx="0"/>
          </p:cNvCxnSpPr>
          <p:nvPr/>
        </p:nvCxnSpPr>
        <p:spPr>
          <a:xfrm flipH="1" flipV="1">
            <a:off x="2894760" y="2742840"/>
            <a:ext cx="3125160" cy="205776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65" name="AutoShape 9"/>
          <p:cNvSpPr/>
          <p:nvPr/>
        </p:nvSpPr>
        <p:spPr>
          <a:xfrm>
            <a:off x="3581280" y="1752480"/>
            <a:ext cx="22100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6" name="AutoShape 11"/>
          <p:cNvCxnSpPr>
            <a:stCxn id="261" idx="3"/>
            <a:endCxn id="265" idx="1"/>
          </p:cNvCxnSpPr>
          <p:nvPr/>
        </p:nvCxnSpPr>
        <p:spPr>
          <a:xfrm>
            <a:off x="2895120" y="2323800"/>
            <a:ext cx="68652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7" name="AutoShape 12"/>
          <p:cNvCxnSpPr>
            <a:stCxn id="265" idx="3"/>
            <a:endCxn id="262" idx="1"/>
          </p:cNvCxnSpPr>
          <p:nvPr/>
        </p:nvCxnSpPr>
        <p:spPr>
          <a:xfrm>
            <a:off x="5790960" y="2323800"/>
            <a:ext cx="610200" cy="3243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BBDD-6D5D-4560-9C0F-DC2D9055BC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CFB6-F081-4AC7-886D-6813B383A6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пациентов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96880"/>
            <a:ext cx="86104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ставить информацию о взятии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условия для взятия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енный и знающий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докумен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"/>
          <p:cNvSpPr/>
          <p:nvPr/>
        </p:nvSpPr>
        <p:spPr>
          <a:xfrm>
            <a:off x="6019920" y="586728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конфиденциаль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6" name="Group 2"/>
          <p:cNvGrpSpPr/>
          <p:nvPr/>
        </p:nvGrpSpPr>
        <p:grpSpPr>
          <a:xfrm>
            <a:off x="3581640" y="4106160"/>
            <a:ext cx="2342880" cy="2597400"/>
            <a:chOff x="3581640" y="4106160"/>
            <a:chExt cx="2342880" cy="2597400"/>
          </a:xfrm>
        </p:grpSpPr>
        <p:pic>
          <p:nvPicPr>
            <p:cNvPr id="277" name="Picture 12" descr="14_instructions"/>
            <p:cNvPicPr/>
            <p:nvPr/>
          </p:nvPicPr>
          <p:blipFill>
            <a:blip r:embed="rId3"/>
            <a:stretch/>
          </p:blipFill>
          <p:spPr>
            <a:xfrm rot="20064600">
              <a:off x="3962160" y="4343400"/>
              <a:ext cx="158112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Box 1"/>
            <p:cNvSpPr/>
            <p:nvPr/>
          </p:nvSpPr>
          <p:spPr>
            <a:xfrm rot="20040000">
              <a:off x="4014720" y="4518360"/>
              <a:ext cx="1309680" cy="15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 Narrow"/>
                </a:rPr>
                <a:t>Услуги Лаборатории качеств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818ff"/>
                  </a:solidFill>
                  <a:latin typeface="Arial"/>
                </a:rPr>
                <a:t>Инструкции для пациентов по сбору проб для анализов на гельминты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3561-5E4C-4817-BDB3-496366C9DA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88A7-6870-4C40-AE57-614B309E6F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доставьте пациентам следующую информацию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457200" y="2141640"/>
            <a:ext cx="35812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рес лаборатории и инструкции, как до нее добратьс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ть ли персонал, владеющий двум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/или более язы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8CFB-C383-4F54-AA74-3919104453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00B4-56C3-44EF-B43C-6F48E8A59F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202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забору проб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1429920"/>
            <a:ext cx="79246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контейне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ловия обращ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ры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038480"/>
            <a:ext cx="3954240" cy="2079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562720" y="2590920"/>
            <a:ext cx="3200400" cy="15332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1084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94" name="Picture 8" descr="patient-wristband"/>
          <p:cNvPicPr/>
          <p:nvPr/>
        </p:nvPicPr>
        <p:blipFill>
          <a:blip r:embed="rId4"/>
          <a:stretch/>
        </p:blipFill>
        <p:spPr>
          <a:xfrm>
            <a:off x="7010280" y="1066680"/>
            <a:ext cx="152424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EFFB-69CE-4C6E-9230-DFBAB1997A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DDD6-D545-4E67-BAA7-A8A84D557B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10" descr="13_clean_rooms_new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9" name="AutoShape 10"/>
          <p:cNvCxnSpPr>
            <a:stCxn id="300" idx="0"/>
            <a:endCxn id="301" idx="2"/>
          </p:cNvCxnSpPr>
          <p:nvPr/>
        </p:nvCxnSpPr>
        <p:spPr>
          <a:xfrm flipV="1">
            <a:off x="3200040" y="3199680"/>
            <a:ext cx="114372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3A01-5790-40AD-8A26-50EA765A6B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9EF2-7538-4D37-B890-ED0686BAB8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6400800" y="1371600"/>
            <a:ext cx="19051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620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едомств охраны здоровья насел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5943600" y="2400480"/>
            <a:ext cx="2971800" cy="12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Группы и лица, вовлеченные в охрану здоровья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6"/>
          <p:cNvSpPr/>
          <p:nvPr/>
        </p:nvSpPr>
        <p:spPr>
          <a:xfrm>
            <a:off x="1905120" y="4876920"/>
            <a:ext cx="259056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09" name="AutoShape 7"/>
          <p:cNvCxnSpPr>
            <a:stCxn id="300" idx="0"/>
          </p:cNvCxnSpPr>
          <p:nvPr/>
        </p:nvCxnSpPr>
        <p:spPr>
          <a:xfrm flipV="1">
            <a:off x="3200040" y="3504960"/>
            <a:ext cx="2896200" cy="1372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AutoShape 8"/>
          <p:cNvCxnSpPr>
            <a:stCxn id="300" idx="0"/>
            <a:endCxn id="307" idx="2"/>
          </p:cNvCxnSpPr>
          <p:nvPr/>
        </p:nvCxnSpPr>
        <p:spPr>
          <a:xfrm flipH="1" flipV="1">
            <a:off x="1523160" y="3047760"/>
            <a:ext cx="167724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301" name="AutoShape 9"/>
          <p:cNvSpPr/>
          <p:nvPr/>
        </p:nvSpPr>
        <p:spPr>
          <a:xfrm>
            <a:off x="342900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1" name="AutoShape 11"/>
          <p:cNvCxnSpPr>
            <a:stCxn id="307" idx="3"/>
            <a:endCxn id="301" idx="1"/>
          </p:cNvCxnSpPr>
          <p:nvPr/>
        </p:nvCxnSpPr>
        <p:spPr>
          <a:xfrm>
            <a:off x="2438280" y="2666880"/>
            <a:ext cx="99144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2" name="AutoShape 12"/>
          <p:cNvCxnSpPr>
            <a:stCxn id="301" idx="3"/>
            <a:endCxn id="308" idx="1"/>
          </p:cNvCxnSpPr>
          <p:nvPr/>
        </p:nvCxnSpPr>
        <p:spPr>
          <a:xfrm>
            <a:off x="5257440" y="2705040"/>
            <a:ext cx="686520" cy="324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3" name="Rectangle 13"/>
          <p:cNvSpPr/>
          <p:nvPr/>
        </p:nvSpPr>
        <p:spPr>
          <a:xfrm>
            <a:off x="5334120" y="4114800"/>
            <a:ext cx="3429000" cy="2019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онные матери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беспечение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09D9-8A38-42DD-AD14-D7498BA20A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CACF-F8CC-46CC-9B5A-EB4E6DB470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7" name="Diagram 8"/>
          <p:cNvGrpSpPr/>
          <p:nvPr/>
        </p:nvGrpSpPr>
        <p:grpSpPr>
          <a:xfrm>
            <a:off x="380880" y="1092240"/>
            <a:ext cx="8395560" cy="5117760"/>
            <a:chOff x="380880" y="1092240"/>
            <a:chExt cx="8395560" cy="5117760"/>
          </a:xfrm>
        </p:grpSpPr>
        <p:sp>
          <p:nvSpPr>
            <p:cNvPr id="318" name="_s1028"/>
            <p:cNvSpPr/>
            <p:nvPr/>
          </p:nvSpPr>
          <p:spPr>
            <a:xfrm flipH="1" flipV="1">
              <a:off x="2362680" y="2895840"/>
              <a:ext cx="1395000" cy="5007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1029"/>
            <p:cNvSpPr/>
            <p:nvPr/>
          </p:nvSpPr>
          <p:spPr>
            <a:xfrm>
              <a:off x="457560" y="1941840"/>
              <a:ext cx="2053080" cy="13330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Удаление отходов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_s1030"/>
            <p:cNvSpPr/>
            <p:nvPr/>
          </p:nvSpPr>
          <p:spPr>
            <a:xfrm flipH="1">
              <a:off x="2869560" y="4064040"/>
              <a:ext cx="888480" cy="333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_s1031"/>
            <p:cNvSpPr/>
            <p:nvPr/>
          </p:nvSpPr>
          <p:spPr>
            <a:xfrm>
              <a:off x="380880" y="4190040"/>
              <a:ext cx="2398320" cy="1333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Транспортировка опасных материалов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_s1032"/>
            <p:cNvSpPr/>
            <p:nvPr/>
          </p:nvSpPr>
          <p:spPr>
            <a:xfrm>
              <a:off x="4570560" y="4397040"/>
              <a:ext cx="0" cy="6667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_s1033"/>
            <p:cNvSpPr/>
            <p:nvPr/>
          </p:nvSpPr>
          <p:spPr>
            <a:xfrm>
              <a:off x="3124440" y="4876920"/>
              <a:ext cx="289512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граничение распространени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_s1034"/>
            <p:cNvSpPr/>
            <p:nvPr/>
          </p:nvSpPr>
          <p:spPr>
            <a:xfrm>
              <a:off x="5791680" y="4064040"/>
              <a:ext cx="911880" cy="443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_s1035"/>
            <p:cNvSpPr/>
            <p:nvPr/>
          </p:nvSpPr>
          <p:spPr>
            <a:xfrm>
              <a:off x="6703560" y="4229640"/>
              <a:ext cx="2053080" cy="13334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щи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_s1036"/>
            <p:cNvSpPr/>
            <p:nvPr/>
          </p:nvSpPr>
          <p:spPr>
            <a:xfrm flipV="1">
              <a:off x="5791680" y="2971800"/>
              <a:ext cx="761400" cy="342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_s1037"/>
            <p:cNvSpPr/>
            <p:nvPr/>
          </p:nvSpPr>
          <p:spPr>
            <a:xfrm>
              <a:off x="6532560" y="1897920"/>
              <a:ext cx="2243880" cy="13334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Безопасность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_s1038"/>
            <p:cNvSpPr/>
            <p:nvPr/>
          </p:nvSpPr>
          <p:spPr>
            <a:xfrm flipV="1">
              <a:off x="4570560" y="2399040"/>
              <a:ext cx="0" cy="66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_s1039"/>
            <p:cNvSpPr/>
            <p:nvPr/>
          </p:nvSpPr>
          <p:spPr>
            <a:xfrm>
              <a:off x="3503520" y="1092240"/>
              <a:ext cx="2053080" cy="14990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повещения об инфекционных заболеваниях, эпиднадзор и меры реагировани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_s1040"/>
            <p:cNvSpPr/>
            <p:nvPr/>
          </p:nvSpPr>
          <p:spPr>
            <a:xfrm>
              <a:off x="3621240" y="3066120"/>
              <a:ext cx="2052360" cy="1333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1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Удовлетворение потребностей насе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26"/>
          <p:cNvSpPr/>
          <p:nvPr/>
        </p:nvSpPr>
        <p:spPr>
          <a:xfrm>
            <a:off x="3048120" y="2895480"/>
            <a:ext cx="2973240" cy="1689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9923-D9BF-4F94-8DB3-D8C10A9463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2C4A-5977-4039-B846-849AB4D3AB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38080" y="1523880"/>
            <a:ext cx="7543800" cy="1409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Лаборатория проверена и аккредитована в соответствии с высшими стандар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39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40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1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Verdana"/>
                  <a:ea typeface="Verdana"/>
                </a:endParaRPr>
              </a:p>
            </p:txBody>
          </p:sp>
        </p:grpSp>
        <p:sp>
          <p:nvSpPr>
            <p:cNvPr id="342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3" name="Text Box 14"/>
            <p:cNvSpPr/>
            <p:nvPr/>
          </p:nvSpPr>
          <p:spPr>
            <a:xfrm>
              <a:off x="1587600" y="4746600"/>
              <a:ext cx="211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ЕРВИЧНА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4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5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46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47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8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Verdana"/>
                  <a:ea typeface="Verdana"/>
                </a:endParaRPr>
              </a:p>
            </p:txBody>
          </p:sp>
        </p:grpSp>
        <p:sp>
          <p:nvSpPr>
            <p:cNvPr id="349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Text Box 21"/>
            <p:cNvSpPr/>
            <p:nvPr/>
          </p:nvSpPr>
          <p:spPr>
            <a:xfrm>
              <a:off x="4934160" y="4645800"/>
              <a:ext cx="277956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оддержание статус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1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2378-3D4A-4839-871E-B819796D56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3567-2BF2-43F2-B529-A5CA67B62C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1256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елить разные категории клиенто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методы измерения удовлетворенност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 потенциальные проблемы с клиент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ложить решения проблем в обслуживани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, как процессы управления качеством помогают лаборатории удовлетворить потребности и требования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F42B-14B3-4A56-9A74-2420D25779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8368-0444-4D5A-8A90-BCF6AA813B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2666880"/>
            <a:ext cx="830592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орошее обслуживание клиентов предоставит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наилучшего леч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улучшения эпиднадз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фессиональный имидж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Обслуживание клиентов – неотъемлемая часть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Методы оценки удовлетворенности клиентов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4C62-6A8A-43FF-B026-D9C2698073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E504-2F2C-4A65-9EF7-4395ACA0EE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1" name="Diagram 5"/>
          <p:cNvGrpSpPr/>
          <p:nvPr/>
        </p:nvGrpSpPr>
        <p:grpSpPr>
          <a:xfrm>
            <a:off x="306360" y="1517760"/>
            <a:ext cx="8230320" cy="4547880"/>
            <a:chOff x="306360" y="1517760"/>
            <a:chExt cx="8230320" cy="4547880"/>
          </a:xfrm>
        </p:grpSpPr>
        <p:sp>
          <p:nvSpPr>
            <p:cNvPr id="362" name="_s2052"/>
            <p:cNvSpPr/>
            <p:nvPr/>
          </p:nvSpPr>
          <p:spPr>
            <a:xfrm flipH="1" flipV="1">
              <a:off x="2360160" y="2872800"/>
              <a:ext cx="1126440" cy="481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_s2053"/>
            <p:cNvSpPr/>
            <p:nvPr/>
          </p:nvSpPr>
          <p:spPr>
            <a:xfrm>
              <a:off x="306360" y="1955160"/>
              <a:ext cx="3035880" cy="10926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устные опросы, фокус-групп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_s2054"/>
            <p:cNvSpPr/>
            <p:nvPr/>
          </p:nvSpPr>
          <p:spPr>
            <a:xfrm flipH="1">
              <a:off x="2837880" y="3962160"/>
              <a:ext cx="104904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_s2055"/>
            <p:cNvSpPr/>
            <p:nvPr/>
          </p:nvSpPr>
          <p:spPr>
            <a:xfrm>
              <a:off x="306360" y="4278960"/>
              <a:ext cx="3885120" cy="947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кетирование удовлетворенност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_s2056"/>
            <p:cNvSpPr/>
            <p:nvPr/>
          </p:nvSpPr>
          <p:spPr>
            <a:xfrm>
              <a:off x="4570920" y="3962160"/>
              <a:ext cx="151920" cy="137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_s2057"/>
            <p:cNvSpPr/>
            <p:nvPr/>
          </p:nvSpPr>
          <p:spPr>
            <a:xfrm>
              <a:off x="3342240" y="5199480"/>
              <a:ext cx="2828520" cy="86616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ализ руководством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_s2058"/>
            <p:cNvSpPr/>
            <p:nvPr/>
          </p:nvSpPr>
          <p:spPr>
            <a:xfrm>
              <a:off x="5257440" y="3962160"/>
              <a:ext cx="1068840" cy="442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_s2059"/>
            <p:cNvSpPr/>
            <p:nvPr/>
          </p:nvSpPr>
          <p:spPr>
            <a:xfrm>
              <a:off x="5879880" y="4188600"/>
              <a:ext cx="265680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внутренний аудит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_s2060"/>
            <p:cNvSpPr/>
            <p:nvPr/>
          </p:nvSpPr>
          <p:spPr>
            <a:xfrm flipV="1">
              <a:off x="5430240" y="2971440"/>
              <a:ext cx="1045080" cy="51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_s2061"/>
            <p:cNvSpPr/>
            <p:nvPr/>
          </p:nvSpPr>
          <p:spPr>
            <a:xfrm>
              <a:off x="5961240" y="2121480"/>
              <a:ext cx="257544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показатели качеств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_s2062"/>
            <p:cNvSpPr/>
            <p:nvPr/>
          </p:nvSpPr>
          <p:spPr>
            <a:xfrm flipV="1">
              <a:off x="4533120" y="2209320"/>
              <a:ext cx="0" cy="970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_s2063"/>
            <p:cNvSpPr/>
            <p:nvPr/>
          </p:nvSpPr>
          <p:spPr>
            <a:xfrm>
              <a:off x="3534840" y="1517760"/>
              <a:ext cx="2071080" cy="8740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жалобы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_s2064"/>
            <p:cNvSpPr/>
            <p:nvPr/>
          </p:nvSpPr>
          <p:spPr>
            <a:xfrm>
              <a:off x="2360520" y="2971440"/>
              <a:ext cx="4344840" cy="112464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тслеживание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C1C4-D4DA-4966-8D81-0CF115D06B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48A6-3E21-412F-9757-29E2B31656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ученные жалобы отражают лишь «верхушку айсберга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B2FC-3F5B-4951-8ACD-7DA30B906E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CBB1-C112-45F5-9CC9-0845D4F410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алоб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51920" y="2757240"/>
            <a:ext cx="396252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7d"/>
                </a:solidFill>
                <a:latin typeface="Verdana"/>
              </a:rPr>
              <a:t>Фактически недовольные клиенты</a:t>
            </a:r>
            <a:r>
              <a:rPr b="1" lang="en-US" sz="34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8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AutoShape 10"/>
          <p:cNvSpPr/>
          <p:nvPr/>
        </p:nvSpPr>
        <p:spPr>
          <a:xfrm rot="5400000">
            <a:off x="3238200" y="2704680"/>
            <a:ext cx="3809880" cy="2667240"/>
          </a:xfrm>
          <a:custGeom>
            <a:avLst/>
            <a:gdLst>
              <a:gd name="textAreaLeft" fmla="*/ 380880 w 3809880"/>
              <a:gd name="textAreaRight" fmla="*/ 3429000 w 3809880"/>
              <a:gd name="textAreaTop" fmla="*/ 1524240 h 2667240"/>
              <a:gd name="textAreaBottom" fmla="*/ 2286360 h 2667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559E-9732-49CB-A933-CBEA4E2CC7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5105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етоды оцен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914400" y="144792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казателей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AutoShape 16"/>
          <p:cNvSpPr/>
          <p:nvPr/>
        </p:nvSpPr>
        <p:spPr>
          <a:xfrm>
            <a:off x="5334120" y="1143000"/>
            <a:ext cx="3352680" cy="2209680"/>
          </a:xfrm>
          <a:prstGeom prst="hexagon">
            <a:avLst>
              <a:gd name="adj" fmla="val 37932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Text Box 17"/>
          <p:cNvSpPr/>
          <p:nvPr/>
        </p:nvSpPr>
        <p:spPr>
          <a:xfrm>
            <a:off x="5486400" y="167652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дение внутренних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AutoShape 21"/>
          <p:cNvSpPr/>
          <p:nvPr/>
        </p:nvSpPr>
        <p:spPr>
          <a:xfrm rot="4216800">
            <a:off x="2411280" y="2757240"/>
            <a:ext cx="1444680" cy="990720"/>
          </a:xfrm>
          <a:custGeom>
            <a:avLst/>
            <a:gdLst>
              <a:gd name="textAreaLeft" fmla="*/ 225720 w 1444680"/>
              <a:gd name="textAreaRight" fmla="*/ 1264320 w 144468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AutoShape 22"/>
          <p:cNvSpPr/>
          <p:nvPr/>
        </p:nvSpPr>
        <p:spPr>
          <a:xfrm rot="6607200">
            <a:off x="4489920" y="2743920"/>
            <a:ext cx="1452240" cy="990360"/>
          </a:xfrm>
          <a:custGeom>
            <a:avLst/>
            <a:gdLst>
              <a:gd name="textAreaLeft" fmla="*/ 226800 w 1452240"/>
              <a:gd name="textAreaRight" fmla="*/ 1270800 w 145224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AutoShape 23"/>
          <p:cNvSpPr/>
          <p:nvPr/>
        </p:nvSpPr>
        <p:spPr>
          <a:xfrm>
            <a:off x="1981080" y="3962520"/>
            <a:ext cx="4724640" cy="2133360"/>
          </a:xfrm>
          <a:prstGeom prst="downArrowCallout">
            <a:avLst>
              <a:gd name="adj1" fmla="val 55371"/>
              <a:gd name="adj2" fmla="val 55366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4"/>
          <p:cNvSpPr/>
          <p:nvPr/>
        </p:nvSpPr>
        <p:spPr>
          <a:xfrm>
            <a:off x="2286000" y="41911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Анализ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Text Box 25"/>
          <p:cNvSpPr/>
          <p:nvPr/>
        </p:nvSpPr>
        <p:spPr>
          <a:xfrm>
            <a:off x="3581280" y="5638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ДЕЙСТВ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04B4-45E2-4F93-9BE9-B056FD3DCA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DCF8-6A70-4474-9615-43197AF787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533160" y="990720"/>
            <a:ext cx="434340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зучение мнения клиенто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является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требованием системы управления качеством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5181480" y="609480"/>
            <a:ext cx="38084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следование мне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7748-6FAF-4247-8E20-150497CD14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54BF-F81A-426C-B255-ABD27A2F49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2" name="Diagram 5"/>
          <p:cNvGrpSpPr/>
          <p:nvPr/>
        </p:nvGrpSpPr>
        <p:grpSpPr>
          <a:xfrm>
            <a:off x="457200" y="1295280"/>
            <a:ext cx="8152560" cy="4876560"/>
            <a:chOff x="457200" y="1295280"/>
            <a:chExt cx="8152560" cy="4876560"/>
          </a:xfrm>
        </p:grpSpPr>
        <p:sp>
          <p:nvSpPr>
            <p:cNvPr id="413" name="AutoShape 4"/>
            <p:cNvSpPr/>
            <p:nvPr/>
          </p:nvSpPr>
          <p:spPr>
            <a:xfrm>
              <a:off x="457200" y="1295280"/>
              <a:ext cx="8152560" cy="48765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своевременно проанализи-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_s3079"/>
            <p:cNvSpPr/>
            <p:nvPr/>
          </p:nvSpPr>
          <p:spPr>
            <a:xfrm>
              <a:off x="1219320" y="4600080"/>
              <a:ext cx="238140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без наводящих вопросов, объектив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_s3081"/>
            <p:cNvSpPr/>
            <p:nvPr/>
          </p:nvSpPr>
          <p:spPr>
            <a:xfrm>
              <a:off x="5687640" y="4601880"/>
              <a:ext cx="215964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ранее провере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_s3083"/>
            <p:cNvSpPr/>
            <p:nvPr/>
          </p:nvSpPr>
          <p:spPr>
            <a:xfrm>
              <a:off x="6261120" y="2558160"/>
              <a:ext cx="227160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рганиз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_s3085"/>
            <p:cNvSpPr/>
            <p:nvPr/>
          </p:nvSpPr>
          <p:spPr>
            <a:xfrm>
              <a:off x="3553200" y="1295280"/>
              <a:ext cx="2617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плани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5" name="Text Box 19"/>
          <p:cNvSpPr/>
          <p:nvPr/>
        </p:nvSpPr>
        <p:spPr>
          <a:xfrm>
            <a:off x="3048120" y="2819520"/>
            <a:ext cx="3047760" cy="15562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Успешно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37B7-3984-445E-BB8C-9B82528D8B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6D31-D51E-4731-9F15-17D2ABAE08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веты для устного опрос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68580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ранее напишите вопрос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давайте конкретные вопросы, а также вопросы, в ответ на которые клиент может высказать свое мнени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удут искренние отв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1" name="Picture 9" descr="MCj02955670000[1]"/>
          <p:cNvPicPr/>
          <p:nvPr/>
        </p:nvPicPr>
        <p:blipFill>
          <a:blip r:embed="rId1"/>
          <a:stretch/>
        </p:blipFill>
        <p:spPr>
          <a:xfrm>
            <a:off x="6324480" y="3276720"/>
            <a:ext cx="2713320" cy="342900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914400" y="467820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«Как мы можем улучшить обслуживание?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0281-60D6-422B-BE36-CD3FB4EE8B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Фокус-групп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3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проведении обсужден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фокус-групп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небольшие группы из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8–10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лове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ите людей из разных социальных групп и с разными запросами к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чните с вопросов, которые установят довер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екомендации по отбору фокус-групп для сопоставимост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давайте открытые вопросы, на которые клиент может высказать свое мнение, а не отвечать «Да» или «Нет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8" name="Picture 9" descr="MCPE02097_0000[1]"/>
          <p:cNvPicPr/>
          <p:nvPr/>
        </p:nvPicPr>
        <p:blipFill>
          <a:blip r:embed="rId1"/>
          <a:srcRect l="0" t="0" r="10555" b="60635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DCE4-7E89-4B5D-B662-B21EC6B350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529A-ED8D-431F-828C-3C96F84426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змерение удовлетворенности клиентов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озможности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228600" y="1676520"/>
            <a:ext cx="876312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Опросы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2743200" y="3352680"/>
            <a:ext cx="348156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Информац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Улучшение процесс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8232-F7E2-498F-B180-EED5B0ECCB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7C69-BC0B-4A5B-B6C2-0920AFBEDF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которые клиенты пожаловались на значительные задержки в выдаче результатов анализов на ВИЧ. Вы убедились в том, что задержки были необоснованными, и устранили недостатк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к вы можете восстановить доверие клиентов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76E5-9383-4AA6-9113-917A46B561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0681-A375-4C7E-A7A7-9B5137751C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Активная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система управления качеством обеспечит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потребностей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всех клиентов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4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5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6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D1F4-6F45-486D-8EAB-CD21C48C64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C4FA-4AFC-4D7B-92F5-373ABB60D1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лиентов – неотъемлемая часть системы управления качеством. Важно, чтобы лаборатор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ктивно участвовала в этом процесс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одила планирование и отслежи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ла и понимала клиентов и их потреб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яла ресурсы для этой програм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0880" y="1219320"/>
            <a:ext cx="87631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овлетворение потребностей клиентов является основной целью лаборатор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ктивная система управления качеством в лаборатории обеспечит удовлетворение потребностей всех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ый сотрудник лаборатории несет ответственность за качество и, как следствие, за обслуживание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3306-FD40-4F0F-8818-ED2D80BB42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E21F-4672-4C4E-9B89-5878796683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9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70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1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2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3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5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6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7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8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9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3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4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5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6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7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8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89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0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2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5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6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7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8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9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0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01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2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3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5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6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7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8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9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10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1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12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3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4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15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6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8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9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0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1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2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3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4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5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6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2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4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4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4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4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5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5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5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7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8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83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D207-7EA8-465F-884F-D08C32DD13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5144-BD95-414D-AEF7-33B901E44D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55E4-D752-453C-B956-F1C318208A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819520" y="487692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Четыре принципа управления качеств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80880" y="2661840"/>
            <a:ext cx="6248520" cy="1556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Качество – это удовлетворение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потребностей клиентов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4856-563B-4E61-8810-930EBF866F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9FAD-EDA4-48D9-9094-CBC011FB92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отвечает за обслуживание клиента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2590920" y="3112920"/>
            <a:ext cx="419076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Кажды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лаборатории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программы повышения удовлетворенности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160" y="2057040"/>
            <a:ext cx="838188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с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верженность всех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лан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адение методами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есурс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A329-6D55-4AB9-9652-347D33C28E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117E-1ADB-46F4-B57A-F60100AB2F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C2CA-D63C-432E-A33F-FA7ED4CA2D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и ее кли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8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20" name="AutoShape 9"/>
          <p:cNvSpPr/>
          <p:nvPr/>
        </p:nvSpPr>
        <p:spPr>
          <a:xfrm>
            <a:off x="3505320" y="4800600"/>
            <a:ext cx="22096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ругие мед. работни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21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11"/>
          <p:cNvCxnSpPr>
            <a:stCxn id="215" idx="3"/>
            <a:endCxn id="220" idx="1"/>
          </p:cNvCxnSpPr>
          <p:nvPr/>
        </p:nvCxnSpPr>
        <p:spPr>
          <a:xfrm>
            <a:off x="2438280" y="5105520"/>
            <a:ext cx="106776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3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8A7F-C215-49F5-9DEC-ABE658497C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2705-082C-4A92-9FD0-118AA552AA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должна иметь юридическую идентификаци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65530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дре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О руководите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актная информация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лефо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акс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лектронная поч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4" descr="j0286448"/>
          <p:cNvPicPr/>
          <p:nvPr/>
        </p:nvPicPr>
        <p:blipFill>
          <a:blip r:embed="rId1"/>
          <a:stretch/>
        </p:blipFill>
        <p:spPr>
          <a:xfrm>
            <a:off x="5562720" y="1905120"/>
            <a:ext cx="3286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21:21Z</dcterms:modified>
  <cp:revision>168</cp:revision>
  <dc:subject/>
  <dc:title>Slide 1</dc:title>
</cp:coreProperties>
</file>